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95DF3-4BD2-4D0D-8F41-A009B2BEA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E47E5-6657-4E54-A488-ACCF6F504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D14C7-B6EE-490C-B574-59F71455D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CAEC6-4A58-4D2C-8A0D-435FCD5C2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524F1-7EE3-4978-AFBA-E7EE933CF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EB23D-08D9-487A-8B07-3711AC4A1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3E662-759C-4D28-A20D-1363D174E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84FB7-ACAE-4B3F-B282-BC702DA64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52308-D4D9-4BBC-93A7-C72E7F1A0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B7289-CD97-4268-AC8B-3231E7CC7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50CEF-1BC5-4938-B401-4F2C6D379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99B79-A5E2-4D1B-9C80-760F41F61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15F27-18F2-463C-8127-7419DE4E0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EACC7-8A7D-4642-B9A3-1F9DF49A4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C54B2-3FCD-4C9E-9555-857A8EF12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9BF22-0ABA-4259-8202-BB961B862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1AB2D-D16A-4E9C-ACAE-6CC22CC90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FABAF-5849-4C83-841B-10FCC85D5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F1186-B307-4540-A744-5EE4A838F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FFD08-BBCA-4A10-A3C3-339D94CE5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16333-2CBB-47D3-AC16-4E51B5330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1D33B-C083-48E5-82FA-1DC0E96BC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7C64B-A423-4621-9ED4-9B75DDE9B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1F2CF-6F3F-4B5D-B106-9AC6A8E62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F25D-CAA2-4C42-8BFB-AF519F74560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Arial"/>
              </a:rPr>
              <a:t>Click to edit the title text format</a:t>
            </a:r>
            <a:endParaRPr b="0" lang="en-US" sz="5400" spc="-1" strike="noStrike">
              <a:solidFill>
                <a:srgbClr val="e5ffff"/>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7397-1C6A-4489-A1F9-88CEAF9CFAF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b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b5fffb"/>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khm.uio.no/utstillinger/doedskult/deadclassic/text_8.html" TargetMode="External"/><Relationship Id="rId2" Type="http://schemas.openxmlformats.org/officeDocument/2006/relationships/hyperlink" Target="http://ancienthistory.about.com/od/greekdeath/a/092909Afterlife.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Jupiter_Smyrna_Louvre_Ma13.jpg" TargetMode="External"/><Relationship Id="rId2" Type="http://schemas.openxmlformats.org/officeDocument/2006/relationships/image" Target="../media/image1.jpeg"/><Relationship Id="rId3" Type="http://schemas.openxmlformats.org/officeDocument/2006/relationships/hyperlink" Target="http://en.wikipedia.org/wiki/File:Standing_Osiris_edit1.svg"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File:Mummy_in_Vatican.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co.nz/imgres?imgurl=http://www.livius.org/a/1/egypt/nectanebo_ii_sarcophagus_bm.jpg&amp;imgrefurl=http://www.livius.org/ne-nn/nectanebo/nectanebo_ii.html&amp;usg=__4--X-tOUzDG6loDjOS6pNEcmCW4=&amp;h=461&amp;w=700&amp;sz=57&amp;hl=en&amp;start=6&amp;zoom=1&amp;um=1&amp;itbs=1&amp;tbnid=-G1OMElCaj-UIM:&amp;tbnh=92&amp;tbnw=140&amp;prev=/images%3Fq%3Dsarcophagus%26um%3D1%26hl%3Den%26lr%3D%26safe%3Dactive%26tbs%3Disch:1"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91856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e5ffff"/>
                </a:solidFill>
                <a:latin typeface="Arial"/>
              </a:rPr>
              <a:t>The differences between the Ancient Egyptians and the Ancient Greeks  </a:t>
            </a:r>
            <a:endParaRPr b="0" lang="en-US" sz="5400" spc="-1" strike="noStrike">
              <a:solidFill>
                <a:srgbClr val="e5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Greek traditions</a:t>
            </a:r>
            <a:endParaRPr b="0" lang="en-US" sz="4400" spc="-1" strike="noStrike">
              <a:solidFill>
                <a:srgbClr val="e5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Architecture- </a:t>
            </a:r>
            <a:r>
              <a:rPr b="0" lang="en-GB" sz="1600" spc="-1" strike="noStrike">
                <a:solidFill>
                  <a:srgbClr val="ffffff"/>
                </a:solidFill>
                <a:latin typeface="Tahoma"/>
              </a:rPr>
              <a:t>Greece came up with many of the structural elements, decorative motifs, and building types still used in architecture today. Architecture were very important to the Greeks. It made them individuals. Temples are the best known Greek architecture.</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Individuality was very important to them. Their lives were shaped around individuality. Like how they dress.</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overnment- the Greeks were the first to establish the democratic form of government. It was made up of only men because women and children were not allowed to vote.</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When a child was born a Greek father would dance naked while carrying his child around in the house. The doorway of the house was adorned with a wreath, olives for boys, and wool for girls. Only boys were allowed to go to school and girls had to stay home. They were also treated as youth until the age of 30. </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Foods were eaten because it was thought that they were favourites of a god that they worshipped. </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Egyptian Traditions</a:t>
            </a:r>
            <a:endParaRPr b="0" lang="en-US" sz="4400" spc="-1" strike="noStrike">
              <a:solidFill>
                <a:srgbClr val="e5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In Ancient Egypt, the role of the tomb and  architecture, sculpture, and painting all worked to ensure that Egyptians would enter the afterlife prepared with all the worldly goods they needed.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During birth, the mothers would use the help of goddesses to protect the chil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 carved ivory wand was often placed on the mother's stomach for further protection against evil.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The Egyptians invented papyrus, black ink, a plow being drawn by an ox and the most famous invention, the clock.</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A feast would be offered to the deceased for the afterlife. Oil, salt and honey were used to enhanced their foo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ajority of Egyptian clothing was made from linen, which came from the flax plan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Sacrifices</a:t>
            </a:r>
            <a:endParaRPr b="0" lang="en-US" sz="4400" spc="-1" strike="noStrike">
              <a:solidFill>
                <a:srgbClr val="e5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Ancient Greece they sacrificed tame animals for the Gods and ate a part of it themselves and gave the other parts to the God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Ancient Egypt they sacrificed animals, milk, honey, fruit and gr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Bibliography </a:t>
            </a:r>
            <a:endParaRPr b="0" lang="en-US" sz="4400" spc="-1" strike="noStrike">
              <a:solidFill>
                <a:srgbClr val="e5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ff"/>
                </a:solidFill>
                <a:uFillTx/>
                <a:latin typeface="Tahoma"/>
                <a:hlinkClick r:id="rId1"/>
              </a:rPr>
              <a:t>www.khm.uio.no/utstillinger/doedskult/deadclassic/text_8.html</a:t>
            </a:r>
            <a:br>
              <a:rPr sz="2400"/>
            </a:br>
            <a:r>
              <a:rPr b="0" lang="en-GB" sz="2400" spc="-1" strike="noStrike" u="sng">
                <a:solidFill>
                  <a:srgbClr val="00ccff"/>
                </a:solidFill>
                <a:uFillTx/>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ff"/>
                </a:solidFill>
                <a:uFillTx/>
                <a:latin typeface="Tahoma"/>
                <a:hlinkClick r:id="rId2"/>
              </a:rPr>
              <a:t>ancienthistory.about.com/od/greekdeath/a/092909Afterlife.ht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ww.e-telescope.gr/en/history-and-archaeology/132-ancient-technolog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ww.favoritetraditions.com/greektraditions.html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ww.favoritetraditions.com/egyptiantraditions.htm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ki.answers.com/Q/Why_did_the_ancient_egyptians_make_sacrifices_to_the_go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5ffff"/>
                </a:solidFill>
                <a:latin typeface="Arial"/>
              </a:rPr>
              <a:t>They both worshipped their Gods   </a:t>
            </a:r>
            <a:endParaRPr b="0" lang="en-US" sz="4000" spc="-1" strike="noStrike">
              <a:solidFill>
                <a:srgbClr val="e5ffff"/>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phrodite (Greek) and Hathor (Egyptian) were both Goddesses of Lov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res and </a:t>
            </a:r>
            <a:r>
              <a:rPr b="0" lang="en-NZ" sz="2400" spc="-1" strike="noStrike">
                <a:solidFill>
                  <a:srgbClr val="ffffff"/>
                </a:solidFill>
                <a:latin typeface="Tahoma"/>
              </a:rPr>
              <a:t>Horus</a:t>
            </a:r>
            <a:r>
              <a:rPr b="0" lang="en-NZ" sz="2400" spc="-1" strike="noStrike">
                <a:solidFill>
                  <a:srgbClr val="ffffff"/>
                </a:solidFill>
                <a:latin typeface="Tahoma"/>
              </a:rPr>
              <a:t> were both Gods of War.</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pollo and Ra were both Gods of the Su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thena and Thoth were the Goddess and God of Wisdo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Demeter and Wadj-wer were the Goddess and God of Fertility.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era and Nut were the Goddesses of Heave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ades and Osiris were the Gods of the Underworld.</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rtemis and Satis were the Gods of Hunt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95280" y="404640"/>
            <a:ext cx="8291520" cy="572616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Erebos and Kuk were both Gods of Darknes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Gaia and Geb were a Goddess and God of the Earth.</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ecate and Isis were both Goddesses of Magi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Perses and Sekhmet were a God and Goddess of Destuc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ollo and Ma’at were a God and Goddess of Truth</a:t>
            </a:r>
            <a:endParaRPr b="0" lang="en-US" sz="2800" spc="-1" strike="noStrike">
              <a:solidFill>
                <a:srgbClr val="ffffff"/>
              </a:solidFill>
              <a:latin typeface="Tahoma"/>
            </a:endParaRPr>
          </a:p>
        </p:txBody>
      </p:sp>
      <p:pic>
        <p:nvPicPr>
          <p:cNvPr id="156" name="" descr="The Jupiter de Smyrne, discovered in Smyrna in 1680[1]">
            <a:hlinkClick r:id="rId1"/>
          </p:cNvPr>
          <p:cNvPicPr/>
          <p:nvPr/>
        </p:nvPicPr>
        <p:blipFill>
          <a:blip r:embed="rId2"/>
          <a:stretch/>
        </p:blipFill>
        <p:spPr>
          <a:xfrm>
            <a:off x="1908000" y="3860640"/>
            <a:ext cx="1352880" cy="2819520"/>
          </a:xfrm>
          <a:prstGeom prst="rect">
            <a:avLst/>
          </a:prstGeom>
          <a:ln w="0">
            <a:noFill/>
          </a:ln>
        </p:spPr>
      </p:pic>
      <p:pic>
        <p:nvPicPr>
          <p:cNvPr id="157" name="" descr="">
            <a:hlinkClick r:id="rId3"/>
          </p:cNvPr>
          <p:cNvPicPr/>
          <p:nvPr/>
        </p:nvPicPr>
        <p:blipFill>
          <a:blip r:embed="rId4"/>
          <a:stretch/>
        </p:blipFill>
        <p:spPr>
          <a:xfrm>
            <a:off x="4067280" y="3860640"/>
            <a:ext cx="122544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Burials</a:t>
            </a:r>
            <a:endParaRPr b="0" lang="en-US" sz="4400" spc="-1" strike="noStrike">
              <a:solidFill>
                <a:srgbClr val="e5ff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Egyptians used Mummification as a means of preserving the dead. Only the richest and most powerful people in Egyptian society were mummified. The procedure was long and expensive. There were three main people that took part in the process; the scribe, the cutter and the embalmer.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It was the scribes role to supervise the cutting of the body. The opening was made by the cutter. </a:t>
            </a:r>
            <a:r>
              <a:rPr b="0" lang="en-GB" sz="2000" spc="-1" strike="noStrike">
                <a:solidFill>
                  <a:srgbClr val="ffffff"/>
                </a:solidFill>
                <a:latin typeface="Tahoma"/>
              </a:rPr>
              <a:t>This method was considered unclean, which limited the cutters position in society. The embalmer was a class of priest which would then prepare and remove the organs and prepare the body.</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mummification would take place in a workshop near the tomb. The process would often take over two month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50560" y="259920"/>
            <a:ext cx="8373960" cy="5899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body would be stripped and placed on a board. The brain was extracted through the nose. The empty brain cavity was filled with linen. The chest would then be cut open and the organs removed with the exception of the hear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fter the organs were removed they were placed in Canopic jars with a drying agent.</a:t>
            </a:r>
            <a:endParaRPr b="0" lang="en-US" sz="2000" spc="-1" strike="noStrike">
              <a:solidFill>
                <a:srgbClr val="ffffff"/>
              </a:solidFill>
              <a:latin typeface="Tahoma"/>
            </a:endParaRPr>
          </a:p>
        </p:txBody>
      </p:sp>
      <p:pic>
        <p:nvPicPr>
          <p:cNvPr id="161" name="" descr="">
            <a:hlinkClick r:id="rId1"/>
          </p:cNvPr>
          <p:cNvPicPr/>
          <p:nvPr/>
        </p:nvPicPr>
        <p:blipFill>
          <a:blip r:embed="rId2"/>
          <a:stretch/>
        </p:blipFill>
        <p:spPr>
          <a:xfrm>
            <a:off x="3419640" y="2060640"/>
            <a:ext cx="2286000" cy="43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333360"/>
            <a:ext cx="8291520" cy="5797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Greeks closed the eyes and mouth of the corpse and then washed the body, it was anointed and wrapped in a shroud. It was then placed on a Kline (like a couch) with its feet to the door. The body lay on a bed of vine, myrtle and laurel leave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procession to the grave usually took place on the third day of death. The body, still resting on the Kline, was either carried, or drawn by a cart. Men walked in front of the body and women walked behind it and the procession would be followed by flute player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t the grave, the body would either be buried or cremated. After being cremated the bones and ashes were collected and placed in an urn. The ground was soaked with the blood of sacrificed animals in order to sooth the dead.</a:t>
            </a:r>
            <a:endParaRPr b="0" lang="en-US" sz="2000" spc="-1" strike="noStrike">
              <a:solidFill>
                <a:srgbClr val="ffffff"/>
              </a:solidFill>
              <a:latin typeface="Tahoma"/>
            </a:endParaRPr>
          </a:p>
        </p:txBody>
      </p:sp>
      <p:pic>
        <p:nvPicPr>
          <p:cNvPr id="163" name="" descr="">
            <a:hlinkClick r:id="rId1"/>
          </p:cNvPr>
          <p:cNvPicPr/>
          <p:nvPr/>
        </p:nvPicPr>
        <p:blipFill>
          <a:blip r:embed="rId2"/>
          <a:stretch/>
        </p:blipFill>
        <p:spPr>
          <a:xfrm>
            <a:off x="3492360" y="4508640"/>
            <a:ext cx="3095640" cy="203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Beliefs of the afterlife</a:t>
            </a:r>
            <a:endParaRPr b="0" lang="en-US" sz="4400" spc="-1" strike="noStrike">
              <a:solidFill>
                <a:srgbClr val="e5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In Egypt, the afterlife was seen as the ideal version of Egypt. The afterlife was a place of complete bliss, delight and peace. The Afterlife was referred to as the Field of Rushes or the Field of Offerings. Ancient Egyptians provided for their afterlives according to their earthly means. The Ancient Egyptians were preoccupied by death and believed the after death they would go to the dark and horrifying place called the Underworld. The Underworld was a land of great dangers and various tests through which every Egyptian would have to pass before entering the Afterlife.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Ancient Greeks believed that when they died they would be sent to Hades in the Underworl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Technology</a:t>
            </a:r>
            <a:endParaRPr b="0" lang="en-US" sz="4400" spc="-1" strike="noStrike">
              <a:solidFill>
                <a:srgbClr val="e5ffff"/>
              </a:solidFill>
              <a:latin typeface="Arial"/>
            </a:endParaRPr>
          </a:p>
        </p:txBody>
      </p:sp>
      <p:sp>
        <p:nvSpPr>
          <p:cNvPr id="167" name="PlaceHolder 2"/>
          <p:cNvSpPr>
            <a:spLocks noGrp="1"/>
          </p:cNvSpPr>
          <p:nvPr>
            <p:ph/>
          </p:nvPr>
        </p:nvSpPr>
        <p:spPr>
          <a:xfrm>
            <a:off x="539640" y="1268280"/>
            <a:ext cx="8229600" cy="453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Greeks had many inventions that are very commonly used today. Some of these are: </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Talos. This was a fully functional robot that was made by Hephaestus as a gift for King Minos. It was huge and was made of copper. It protected Crete from its enemies and supervised the application of laws. It could move really fast and was capable of touring Crete at least 3 times a day.</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Heronas Steam Engine. It was made up of a closed, circular container filled with water. When the water was heated and began to boil the steam was released by two nozzles, configured in polar alignment. The container was built in a way that it could rotate. The steam release caused a rotating motion of the container that could be used as a steam motor for various application.</a:t>
            </a:r>
            <a:endParaRPr b="0" lang="en-US" sz="2000" spc="-1" strike="noStrike">
              <a:solidFill>
                <a:srgbClr val="ffffff"/>
              </a:solidFill>
              <a:latin typeface="Tahoma"/>
            </a:endParaRPr>
          </a:p>
        </p:txBody>
      </p:sp>
      <p:sp>
        <p:nvSpPr>
          <p:cNvPr id="168" name=""/>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69" name=""/>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In Ancient Egypt bronze tools were used in everyday life. In 200 BC it changed to iron tools. With these they built great monuments and palaces.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Ancient Egyptian scientists used their knowledge to think of how to do something big and unique. Then they thought of building useful things such as; levers, ramps and rollers to move heavy object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The Ancient Egyptians were the first people to think of the 365 day cycle of the year. The old egyptian calendar and the current calendar varied.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They had 2 different kinds of clocks. A sundial and a water clock. The one big advantage that the water clock had over the sundial was because the sundial can’t work at night and the water clock could.</a:t>
            </a:r>
            <a:endParaRPr b="0" lang="en-US" sz="1600" spc="-1" strike="noStrike">
              <a:solidFill>
                <a:srgbClr val="ffffff"/>
              </a:solidFill>
              <a:latin typeface="Tahoma"/>
            </a:endParaRPr>
          </a:p>
        </p:txBody>
      </p:sp>
      <p:graphicFrame>
        <p:nvGraphicFramePr>
          <p:cNvPr id="172" name=""/>
          <p:cNvGraphicFramePr/>
          <p:nvPr/>
        </p:nvGraphicFramePr>
        <p:xfrm>
          <a:off x="4648320" y="1600200"/>
          <a:ext cx="4038480" cy="4530600"/>
        </p:xfrm>
        <a:graphic>
          <a:graphicData uri="http://schemas.openxmlformats.org/drawingml/2006/table">
            <a:tbl>
              <a:tblPr/>
              <a:tblGrid>
                <a:gridCol w="1346040"/>
                <a:gridCol w="1346400"/>
                <a:gridCol w="1346040"/>
              </a:tblGrid>
              <a:tr h="903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ncient Egyp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United Stat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Days per wee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2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Weeks per mon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4 or 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Months per seas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Seasons per yea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22:13:46Z</dcterms:created>
  <dc:creator>EmmaHawke</dc:creator>
  <dc:description/>
  <dc:language>en-US</dc:language>
  <cp:lastModifiedBy>EmmaHawke</cp:lastModifiedBy>
  <dcterms:modified xsi:type="dcterms:W3CDTF">2010-12-07T22:22:53Z</dcterms:modified>
  <cp:revision>5</cp:revision>
  <dc:subject/>
  <dc:title>The differences between the Ancient Egyptians and th </dc:title>
</cp:coreProperties>
</file>